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9FA-0FBA-442B-988B-E97F7B98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F09-DB63-488D-9F89-4DDC6D7F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AF7-7404-4656-863C-DAC53056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900-A0BC-4FA7-9075-0662FE7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BC2-209F-4AC1-871C-70AD8344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885-7081-4980-A3F0-61C476D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B24-123C-4CBE-B550-0054FF1A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413-57E0-48FF-968F-AF563506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700-A1A0-404C-9063-568D7E0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4A3-0B0E-4253-B637-1783A30F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641-2272-4E8A-8FC0-FACAC3C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212-B77B-4D4B-B615-11A993A8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5F2D-83A6-4B2B-92B9-2AA66E92934C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scola Estadual Leontino Alves de Oliveira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Município: Rio Negr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2357280"/>
            <a:ext cx="82152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GETEC: Elizangela Maria dos Santos Arru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RUPO DE ESTUDO E DISCUSSÃO DO NÚCLEO DE TECNOLOGIAS EDUCACIONAIS 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(GED NTE-REGI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aixaDeTexto 4"/>
          <p:cNvSpPr/>
          <p:nvPr/>
        </p:nvSpPr>
        <p:spPr>
          <a:xfrm>
            <a:off x="214200" y="285840"/>
            <a:ext cx="87156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etodologia para quem quer aprender Pedro D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m sociedades  que prezam mais o conhecimento como fundamento imprescindível da autonomia, estudar não se vincula a procedimentos instrucionais, mas têndencialmente à dedicação desconstrutiva/reconstrutiva sistemáti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ixaDeTexto 2"/>
          <p:cNvSpPr/>
          <p:nvPr/>
        </p:nvSpPr>
        <p:spPr>
          <a:xfrm>
            <a:off x="357120" y="357120"/>
            <a:ext cx="8358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tre nós, aprender coincide com ter aula, confunde – se aula com aprendizagem, isto está demonstrado na LDB quando se estatuíram os 200 dias letiv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ados do Inep (Saeb), demonstram que aumentar aula não significa melhor aproveitamento. Os dados insinuam que as aulas não produzem aprendiza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aixaDeTexto 2"/>
          <p:cNvSpPr/>
          <p:nvPr/>
        </p:nvSpPr>
        <p:spPr>
          <a:xfrm>
            <a:off x="500040" y="428760"/>
            <a:ext cx="82152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É difícil convencer disso o professor, já que se identifica com suas aulas e acredita que o aluno necessita delas como oxigênio para sua vi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render é uma dinâmica de dentro para fora, tendo o aprendiz na condição de sujeito e não de ouvinte. Aula só faz sentido se o aluno aprender bem e isto não oc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ixaDeTexto 3"/>
          <p:cNvSpPr/>
          <p:nvPr/>
        </p:nvSpPr>
        <p:spPr>
          <a:xfrm>
            <a:off x="214200" y="285840"/>
            <a:ext cx="87156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udar não é hábito entre os professores, foram formados em instituições instrucionistas, muito distanciadas da pesquisa e elaboração própria conviveram com professores que apenas davam aula e não estudavam, foram avaliados sempre pela prova reprodutiva e agora possuem um diploma, que, supostamente, os dispensaria de estu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4"/>
          <p:cNvSpPr/>
          <p:nvPr/>
        </p:nvSpPr>
        <p:spPr>
          <a:xfrm>
            <a:off x="285840" y="500040"/>
            <a:ext cx="8572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5"/>
          <p:cNvSpPr/>
          <p:nvPr/>
        </p:nvSpPr>
        <p:spPr>
          <a:xfrm>
            <a:off x="357120" y="428760"/>
            <a:ext cx="857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estudo bem feito sempre resulta em autoria, o que retira do interesse procedimentos de cópia, transmissão, aquisição. Estudar bem não combina com receber conteúdos simplificados, abreviados, resumidos, via a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ão se estuda apenas o que dá prazer, porque o que é importante nem sempre é prazero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udioso é quem tem motivação própria para estu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5:06:18Z</dcterms:created>
  <dc:creator>user</dc:creator>
  <dc:description/>
  <dc:language>en-US</dc:language>
  <cp:lastModifiedBy>user</cp:lastModifiedBy>
  <dcterms:modified xsi:type="dcterms:W3CDTF">2015-03-25T02:04:53Z</dcterms:modified>
  <cp:revision>11</cp:revision>
  <dc:subject/>
  <dc:title>Escola Estadual Leontino Alves de Oliveira  Município: Rio Negro</dc:title>
</cp:coreProperties>
</file>